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6C9-0B54-450A-B388-4FF242AD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684-8F65-463F-9A75-EBFBA2CE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B77-43A0-43C6-82CE-CB12C265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8ED-0A27-4237-B9FD-9FAB4B7B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9623-4F87-4625-971A-8741DB85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1997-A5DC-45DF-9AAB-66486BC4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7EDD-F645-4A81-8F7C-2E3B7AEF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3871-04EC-41D3-9ACD-75F3E7C3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8EFE-FAA3-4272-8010-F2FDE26E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7810-C895-4DBE-AA56-B94F2AAE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BCF7-FD48-4DF2-9D3D-A7CBD2A3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28B-3336-46BD-91E3-638F8BE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DB14-1256-4B6E-A247-1FFB268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4F07-5E92-42B5-BE44-E6377FB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2BB5-B8AD-438F-8390-A43F707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9329-17C6-4D69-A130-1FABBB74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BDE-EB47-4317-90E7-AA208B90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000-92E4-4840-AD87-51BBB5EE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FBE-53FC-4568-A465-950A1CA6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0F9-081E-4E32-AB0D-61F200E1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E56-297B-4111-8C40-14351E15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719-F0F2-4B8A-B71C-F40A92DD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AEE-F82A-4469-893A-CE220F6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1DA-6F6B-4D66-9346-B3D455F3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348C-4992-43A6-9F9E-93498424E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4E07-7977-4C64-87BC-321777EF0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amily Structures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n the Caribbea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rican-Caribbean Famil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Approximately 80 to 90 percent of families in the Caribbean are from an African back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greatest effect on cul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Absent fa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Grandmother-dominated househo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Marriage and Div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000" spc="-1" strike="noStrike">
                <a:solidFill>
                  <a:srgbClr val="ffffff"/>
                </a:solidFill>
                <a:latin typeface="Arial"/>
              </a:rPr>
              <a:t>Child-shifting,</a:t>
            </a: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where children are sent to live with relatives because the parents have migrated or have started a family with another spo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Four kinds of relationships within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marital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common-law union</a:t>
            </a: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(the parents live together, but are not legally marri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visiting union</a:t>
            </a: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(the mother still lives in the parents' hom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the single parent fami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other raises children alo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inese-Caribbean Famil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y to keep much of the traditions and customs of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ecially try to preserve their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often identify with the areas in China from which they came, and keep close associations with people from a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education for all their children, but sons are still favo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mily problems usually kept private and only talked about within the family/household. Not a lot of emotional expression, public demonstrations of love are r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nese families appear more stabl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y true to Chinese family structure and tradition of rather introverted family lif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nese families will sometimes migrate to areas where other Chinese families are, isolated from oth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tra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families may change religions, they still practice Buddhist traditions like lighting incense and, sometimes, keep Buddhist shrines in the hom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use/trust herbal medicine as opposed to moder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till often perceived by many as higher class families because of their lighter skin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dian-Caribbean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mil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Roles of Family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Father – head of family, authority figure, provider. Final disiplianarian and decisionmak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other – caretaker, household chores.  Major role of women is to get married and contribute to the famil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Women are seen as inferior to men (traditional Hindu perspe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Children - bring honor to their families through achievements and good behav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Valued traits in chilren - conformity, generational interdependence, obligation, and sha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Children are seen as products of their parents hard work. One of the primary goals of marriage in Hindu families is to have childre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Children must take care of their parents when they grow old (traditional Indian wa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Girls groomed for marriage from childho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generations live in same ho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e of women starting to impr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ore women are going to high school and universities, and hold prestigious job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20:55Z</dcterms:created>
  <dc:creator>Gigi Watson</dc:creator>
  <dc:description/>
  <dc:language>en-US</dc:language>
  <cp:lastModifiedBy>Gigi Watson</cp:lastModifiedBy>
  <dcterms:modified xsi:type="dcterms:W3CDTF">2007-05-23T22:10:02Z</dcterms:modified>
  <cp:revision>19</cp:revision>
  <dc:subject/>
  <dc:title>Family Structures  in the Caribbean</dc:title>
</cp:coreProperties>
</file>